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357-0C3C-45AF-ADA1-0FBAE68A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3A6-2471-44FE-8F6A-05427B87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646-27D5-41E6-8780-23AE3B15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407-789B-4D13-831F-96028BF3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81C-544D-45DD-B4E0-95175C3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306-D1DB-4B0B-9103-0943362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97C-20DA-4116-AD34-B469734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BC4-6D95-4E2A-80E2-48D049D8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82E-DE89-431D-821D-61E466CF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7E5-7B20-4439-9F0F-3D0DE2A4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364-E101-4EE1-9291-DCE01686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824-3FDB-4948-8A85-682C272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44B6-4E29-48FD-BF9D-DC0DA0D05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1:22Z</dcterms:modified>
  <cp:revision>4</cp:revision>
  <dc:subject/>
  <dc:title>Digital ___________</dc:title>
</cp:coreProperties>
</file>